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CBF-46E7-4D44-A8C2-8DAE828C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D33-C657-4447-8044-BF1B5213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2D8-413E-4800-BDBE-3976C051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942-9EEA-40F1-B2D5-83089B3E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B84-F79B-4A45-8222-BBA1B0D5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078-1A6D-422A-94CF-EE76DD08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D96-C366-4635-8F79-6DF348A5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A2A-F5B1-4B11-AAAB-DE950F6C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A53-D62A-4F20-BF8A-EA6DB638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223-3D5F-43E7-A6D2-034C9E1E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E22-BCD4-4B8A-AEA5-E48B0216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D85-7EAF-4670-A20D-CCB8693C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F5E6-2445-44DF-BEAF-EF1F75537F87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Guest</cp:lastModifiedBy>
  <dcterms:modified xsi:type="dcterms:W3CDTF">2012-06-15T12:33:30Z</dcterms:modified>
  <cp:revision>29</cp:revision>
  <dc:subject/>
  <dc:title>SALARIUL</dc:title>
</cp:coreProperties>
</file>